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36E-A344-4EB9-87DF-262F060C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212-3594-46D7-AFBA-EDBCE168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573-1A04-4828-9BAD-281F239F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A5C-EDC2-4DFB-9606-06498584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CD1-A08A-4CF7-A751-A55BF614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477-612A-4D48-82A6-14C59B9E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81A-005E-4650-84DD-7C82D330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CA2-28AE-4BC0-BE89-6A994BD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4E7-8CE7-4F6B-80BE-AD2E956C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767-884F-4AB6-B3B1-D0BDFE11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834-D706-477F-AC75-0ABB84ED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A85-FA3E-4DAF-8F18-18628403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0E7A-7665-4C0C-9A4F-5D6EF04493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878360" y="558972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988280" y="177336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11280" y="2970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АРМАЦЕУТСКИХ</a:t>
            </a: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04904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стаклене амбалаж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о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и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љивост за гасове и т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 отпо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 на дејство хемика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чишће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вишекратне 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680" y="126792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 стаклене амбала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љив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ма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акту са водом (нарочито у току стерилизације) може да отпушта алкалије и утиче на промен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јони су слабо везани и лако мигрирају у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СТЕ стакла прем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 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ојно стак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јено стакло (додавањем малих количина металних окси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трално (борсиликатно-високо хидролитички отпор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трон силикатно стакло (умерено хидролитички отпор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"/>
          <p:cNvGrpSpPr/>
          <p:nvPr/>
        </p:nvGrpSpPr>
        <p:grpSpPr>
          <a:xfrm>
            <a:off x="611280" y="1628640"/>
            <a:ext cx="7678800" cy="3624120"/>
            <a:chOff x="611280" y="1628640"/>
            <a:chExt cx="7678800" cy="3624120"/>
          </a:xfrm>
        </p:grpSpPr>
        <p:sp>
          <p:nvSpPr>
            <p:cNvPr id="103" name="Rectangle 8"/>
            <p:cNvSpPr/>
            <p:nvPr/>
          </p:nvSpPr>
          <p:spPr>
            <a:xfrm>
              <a:off x="611280" y="1628640"/>
              <a:ext cx="7678800" cy="362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3320280" y="1844280"/>
              <a:ext cx="2195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Борсиликатно стакл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5138280" y="18442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1387800" y="2239560"/>
              <a:ext cx="114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омпонент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2464920" y="2239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5849640" y="2239560"/>
              <a:ext cx="206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онцентрација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(tež.%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"/>
            <p:cNvSpPr/>
            <p:nvPr/>
          </p:nvSpPr>
          <p:spPr>
            <a:xfrm>
              <a:off x="7728840" y="2239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5"/>
            <p:cNvSpPr/>
            <p:nvPr/>
          </p:nvSpPr>
          <p:spPr>
            <a:xfrm>
              <a:off x="809640" y="2152440"/>
              <a:ext cx="426564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6"/>
            <p:cNvSpPr/>
            <p:nvPr/>
          </p:nvSpPr>
          <p:spPr>
            <a:xfrm>
              <a:off x="809640" y="2188800"/>
              <a:ext cx="4265640" cy="11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7"/>
            <p:cNvSpPr/>
            <p:nvPr/>
          </p:nvSpPr>
          <p:spPr>
            <a:xfrm>
              <a:off x="5075280" y="2152440"/>
              <a:ext cx="4752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8"/>
            <p:cNvSpPr/>
            <p:nvPr/>
          </p:nvSpPr>
          <p:spPr>
            <a:xfrm>
              <a:off x="5075280" y="2188800"/>
              <a:ext cx="475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9"/>
            <p:cNvSpPr/>
            <p:nvPr/>
          </p:nvSpPr>
          <p:spPr>
            <a:xfrm>
              <a:off x="5122800" y="2152440"/>
              <a:ext cx="276732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5122800" y="2188800"/>
              <a:ext cx="27673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1"/>
            <p:cNvSpPr/>
            <p:nvPr/>
          </p:nvSpPr>
          <p:spPr>
            <a:xfrm>
              <a:off x="7890120" y="2152440"/>
              <a:ext cx="489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7890120" y="2188800"/>
              <a:ext cx="489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7902720" y="2152440"/>
              <a:ext cx="4752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7902720" y="2188800"/>
              <a:ext cx="475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712440" y="2568240"/>
              <a:ext cx="1027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Силиц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1764720" y="25509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7"/>
            <p:cNvSpPr/>
            <p:nvPr/>
          </p:nvSpPr>
          <p:spPr>
            <a:xfrm>
              <a:off x="1879920" y="2568240"/>
              <a:ext cx="794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ди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8"/>
            <p:cNvSpPr/>
            <p:nvPr/>
          </p:nvSpPr>
          <p:spPr>
            <a:xfrm>
              <a:off x="2253600" y="2568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9"/>
            <p:cNvSpPr/>
            <p:nvPr/>
          </p:nvSpPr>
          <p:spPr>
            <a:xfrm>
              <a:off x="6489720" y="256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7,5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6900480" y="2568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1"/>
            <p:cNvSpPr/>
            <p:nvPr/>
          </p:nvSpPr>
          <p:spPr>
            <a:xfrm>
              <a:off x="6960240" y="25682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2"/>
            <p:cNvSpPr/>
            <p:nvPr/>
          </p:nvSpPr>
          <p:spPr>
            <a:xfrm>
              <a:off x="7217640" y="2568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809640" y="2479320"/>
              <a:ext cx="4265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34"/>
            <p:cNvSpPr/>
            <p:nvPr/>
          </p:nvSpPr>
          <p:spPr>
            <a:xfrm>
              <a:off x="809640" y="2516040"/>
              <a:ext cx="426564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5"/>
            <p:cNvSpPr/>
            <p:nvPr/>
          </p:nvSpPr>
          <p:spPr>
            <a:xfrm>
              <a:off x="5075280" y="2479320"/>
              <a:ext cx="475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6"/>
            <p:cNvSpPr/>
            <p:nvPr/>
          </p:nvSpPr>
          <p:spPr>
            <a:xfrm>
              <a:off x="5075280" y="2516040"/>
              <a:ext cx="4752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7"/>
            <p:cNvSpPr/>
            <p:nvPr/>
          </p:nvSpPr>
          <p:spPr>
            <a:xfrm>
              <a:off x="5122800" y="2479320"/>
              <a:ext cx="2816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8"/>
            <p:cNvSpPr/>
            <p:nvPr/>
          </p:nvSpPr>
          <p:spPr>
            <a:xfrm>
              <a:off x="5122800" y="2516040"/>
              <a:ext cx="281628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9"/>
            <p:cNvSpPr/>
            <p:nvPr/>
          </p:nvSpPr>
          <p:spPr>
            <a:xfrm>
              <a:off x="831240" y="28476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Бо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0"/>
            <p:cNvSpPr/>
            <p:nvPr/>
          </p:nvSpPr>
          <p:spPr>
            <a:xfrm>
              <a:off x="1233000" y="28476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1"/>
            <p:cNvSpPr/>
            <p:nvPr/>
          </p:nvSpPr>
          <p:spPr>
            <a:xfrm>
              <a:off x="1307520" y="284760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2"/>
            <p:cNvSpPr/>
            <p:nvPr/>
          </p:nvSpPr>
          <p:spPr>
            <a:xfrm>
              <a:off x="1723320" y="28476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"/>
            <p:cNvSpPr/>
            <p:nvPr/>
          </p:nvSpPr>
          <p:spPr>
            <a:xfrm>
              <a:off x="6490440" y="28476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4"/>
            <p:cNvSpPr/>
            <p:nvPr/>
          </p:nvSpPr>
          <p:spPr>
            <a:xfrm>
              <a:off x="6746400" y="28476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5"/>
            <p:cNvSpPr/>
            <p:nvPr/>
          </p:nvSpPr>
          <p:spPr>
            <a:xfrm>
              <a:off x="6807240" y="284760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4,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6"/>
            <p:cNvSpPr/>
            <p:nvPr/>
          </p:nvSpPr>
          <p:spPr>
            <a:xfrm>
              <a:off x="7217640" y="28476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7"/>
            <p:cNvSpPr/>
            <p:nvPr/>
          </p:nvSpPr>
          <p:spPr>
            <a:xfrm>
              <a:off x="762480" y="3124080"/>
              <a:ext cx="87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Натр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1631520" y="31240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1707480" y="312408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2121840" y="31240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6515280" y="3124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,0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2"/>
            <p:cNvSpPr/>
            <p:nvPr/>
          </p:nvSpPr>
          <p:spPr>
            <a:xfrm>
              <a:off x="6824160" y="31240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6885360" y="3124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,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7192440" y="31240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5"/>
            <p:cNvSpPr/>
            <p:nvPr/>
          </p:nvSpPr>
          <p:spPr>
            <a:xfrm>
              <a:off x="819720" y="3403440"/>
              <a:ext cx="76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ал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1550520" y="34034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1623240" y="340344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8"/>
            <p:cNvSpPr/>
            <p:nvPr/>
          </p:nvSpPr>
          <p:spPr>
            <a:xfrm>
              <a:off x="2039400" y="3403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9"/>
            <p:cNvSpPr/>
            <p:nvPr/>
          </p:nvSpPr>
          <p:spPr>
            <a:xfrm>
              <a:off x="6515280" y="340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0"/>
            <p:cNvSpPr/>
            <p:nvPr/>
          </p:nvSpPr>
          <p:spPr>
            <a:xfrm>
              <a:off x="6824160" y="34034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1"/>
            <p:cNvSpPr/>
            <p:nvPr/>
          </p:nvSpPr>
          <p:spPr>
            <a:xfrm>
              <a:off x="6884640" y="340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2"/>
            <p:cNvSpPr/>
            <p:nvPr/>
          </p:nvSpPr>
          <p:spPr>
            <a:xfrm>
              <a:off x="7243200" y="3403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3"/>
            <p:cNvSpPr/>
            <p:nvPr/>
          </p:nvSpPr>
          <p:spPr>
            <a:xfrm>
              <a:off x="740160" y="3681000"/>
              <a:ext cx="878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алц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4"/>
            <p:cNvSpPr/>
            <p:nvPr/>
          </p:nvSpPr>
          <p:spPr>
            <a:xfrm>
              <a:off x="1640880" y="36810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5"/>
            <p:cNvSpPr/>
            <p:nvPr/>
          </p:nvSpPr>
          <p:spPr>
            <a:xfrm>
              <a:off x="1767960" y="368100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6"/>
            <p:cNvSpPr/>
            <p:nvPr/>
          </p:nvSpPr>
          <p:spPr>
            <a:xfrm>
              <a:off x="2131560" y="3681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7"/>
            <p:cNvSpPr/>
            <p:nvPr/>
          </p:nvSpPr>
          <p:spPr>
            <a:xfrm>
              <a:off x="6802200" y="368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68"/>
            <p:cNvSpPr/>
            <p:nvPr/>
          </p:nvSpPr>
          <p:spPr>
            <a:xfrm>
              <a:off x="6905160" y="3681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9"/>
            <p:cNvSpPr/>
            <p:nvPr/>
          </p:nvSpPr>
          <p:spPr>
            <a:xfrm>
              <a:off x="835200" y="3960360"/>
              <a:ext cx="107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Магнез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0"/>
            <p:cNvSpPr/>
            <p:nvPr/>
          </p:nvSpPr>
          <p:spPr>
            <a:xfrm>
              <a:off x="1937880" y="3960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1"/>
            <p:cNvSpPr/>
            <p:nvPr/>
          </p:nvSpPr>
          <p:spPr>
            <a:xfrm>
              <a:off x="2069280" y="397800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2"/>
            <p:cNvSpPr/>
            <p:nvPr/>
          </p:nvSpPr>
          <p:spPr>
            <a:xfrm>
              <a:off x="2478960" y="3954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3"/>
            <p:cNvSpPr/>
            <p:nvPr/>
          </p:nvSpPr>
          <p:spPr>
            <a:xfrm>
              <a:off x="6591960" y="3960360"/>
              <a:ext cx="16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4"/>
            <p:cNvSpPr/>
            <p:nvPr/>
          </p:nvSpPr>
          <p:spPr>
            <a:xfrm>
              <a:off x="6746400" y="3960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5"/>
            <p:cNvSpPr/>
            <p:nvPr/>
          </p:nvSpPr>
          <p:spPr>
            <a:xfrm>
              <a:off x="6807600" y="3960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6"/>
            <p:cNvSpPr/>
            <p:nvPr/>
          </p:nvSpPr>
          <p:spPr>
            <a:xfrm>
              <a:off x="7114680" y="3960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797040" y="4238280"/>
              <a:ext cx="115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Алумин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1845720" y="42382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9"/>
            <p:cNvSpPr/>
            <p:nvPr/>
          </p:nvSpPr>
          <p:spPr>
            <a:xfrm>
              <a:off x="2056680" y="423828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0"/>
            <p:cNvSpPr/>
            <p:nvPr/>
          </p:nvSpPr>
          <p:spPr>
            <a:xfrm>
              <a:off x="2334600" y="42382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1"/>
            <p:cNvSpPr/>
            <p:nvPr/>
          </p:nvSpPr>
          <p:spPr>
            <a:xfrm>
              <a:off x="6515280" y="4238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2"/>
            <p:cNvSpPr/>
            <p:nvPr/>
          </p:nvSpPr>
          <p:spPr>
            <a:xfrm>
              <a:off x="6824160" y="42382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3"/>
            <p:cNvSpPr/>
            <p:nvPr/>
          </p:nvSpPr>
          <p:spPr>
            <a:xfrm>
              <a:off x="6885360" y="4238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4"/>
            <p:cNvSpPr/>
            <p:nvPr/>
          </p:nvSpPr>
          <p:spPr>
            <a:xfrm>
              <a:off x="7192440" y="42382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5"/>
            <p:cNvSpPr/>
            <p:nvPr/>
          </p:nvSpPr>
          <p:spPr>
            <a:xfrm>
              <a:off x="905400" y="4517640"/>
              <a:ext cx="58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Арсе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6"/>
            <p:cNvSpPr/>
            <p:nvPr/>
          </p:nvSpPr>
          <p:spPr>
            <a:xfrm>
              <a:off x="1428120" y="45176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7"/>
            <p:cNvSpPr/>
            <p:nvPr/>
          </p:nvSpPr>
          <p:spPr>
            <a:xfrm>
              <a:off x="6647040" y="451764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&lt; 0,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8"/>
            <p:cNvSpPr/>
            <p:nvPr/>
          </p:nvSpPr>
          <p:spPr>
            <a:xfrm>
              <a:off x="7062120" y="45176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9"/>
            <p:cNvSpPr/>
            <p:nvPr/>
          </p:nvSpPr>
          <p:spPr>
            <a:xfrm>
              <a:off x="809640" y="4781160"/>
              <a:ext cx="4265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0"/>
            <p:cNvSpPr/>
            <p:nvPr/>
          </p:nvSpPr>
          <p:spPr>
            <a:xfrm>
              <a:off x="809640" y="4757400"/>
              <a:ext cx="426564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91"/>
            <p:cNvSpPr/>
            <p:nvPr/>
          </p:nvSpPr>
          <p:spPr>
            <a:xfrm>
              <a:off x="5075280" y="4757400"/>
              <a:ext cx="4752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2"/>
            <p:cNvSpPr/>
            <p:nvPr/>
          </p:nvSpPr>
          <p:spPr>
            <a:xfrm>
              <a:off x="5075280" y="4781160"/>
              <a:ext cx="475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3"/>
            <p:cNvSpPr/>
            <p:nvPr/>
          </p:nvSpPr>
          <p:spPr>
            <a:xfrm>
              <a:off x="5122800" y="4781160"/>
              <a:ext cx="2816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4"/>
            <p:cNvSpPr/>
            <p:nvPr/>
          </p:nvSpPr>
          <p:spPr>
            <a:xfrm>
              <a:off x="5122800" y="4757400"/>
              <a:ext cx="281628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95"/>
            <p:cNvSpPr/>
            <p:nvPr/>
          </p:nvSpPr>
          <p:spPr>
            <a:xfrm>
              <a:off x="1354320" y="4811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квалитет стакла наведени су у Фармакопеји у поглављу Контејн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стабилност стаклених контејнера за фармацеутску употребу се изражава помоћу хидролитичке отпорности тј. отпорности према отпуштању растворљивих минералних супстанци из стакла у воду под дефинисаним условима контакта унутрашње површине или спрашеног стакла и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хидролитичкој отпорности постоје четири групе стаклених контејн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980640"/>
            <a:ext cx="81075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утрално стакло - борсиликатно стакло високе хидролитичке отпорности, отпорно на високу температуру, најскупље за производ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трон стакло – силикатно стакло са високим садржајем натријум- и калцијум-оксида, стакло чија је унутрашња површина оплемењ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е хидролитичке отпо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трон силикатно стакло умерене хидролитичке отпор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трон силикатно стакло ниске хидролитичке отпор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Н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ТАКЛЕНЕ АМБАЛАЖ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az-Cyrl-A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е парентералне препара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хуману крв и дериват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иселе и неутралн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водене парентералне препарате, прашкове за парентералну примену и све остале препарате који нису за парентералну при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врсте препарате који нису за парентералну примену, неке течне препарате за оралну примену и получврсте препарате за топикалну приме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71680" y="100008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СТИЧНИ МАТЕРИЈ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на бази пластифицираног поливинилхлорид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 за хуману крв, деривате крви и за водене растворе за интравенску инфузију, блистер паковања и боч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тире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бочице за таблете и капс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иле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иске густине за парентералне и офталмолошке препара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иле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исоке густине за парентералн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ропиле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мбалажу за парентералне препарате и филм на блистер паковањ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винилацета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за препарате за тоталну парентералну исх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нски еластомер - за израду затварача и це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аки од претходно наведених материјала Југословенска фармакопеја 2000 даје податке о особинама, идентификацији и испитивањ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26920" y="112500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СТИЧНИ МАТЕРИЈ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 на уд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ксибилност (неке врст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а густина и мала ма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облико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а ц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 хемијска отпорност од стакла ти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тљивост за водену пару и испарљиве супстанц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адсорбовања неких супстанци из препарата на амбалаж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миграције адитива из пластике у препар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 на повишене температуре при топлотној стерилизацији (неке врсте)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46836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24000" y="2276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обезбеђује заштиту, исправност, идентификацију, информацију о фармацеутском препарату током периода чувања, дистрибуције и употр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 паковање треба да обезбеди одговарајућу ефикасност, безбедност, интегритет, чистоћу и стабилност лековитог препарата у предвиђеном року употр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 паковање може бити есенцијално за адекватну администрацију и примену лека, нпр. ако је паковање истовремено систем за доставу лека - трансдермални фластери, МДИ, назални спреј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УМЕНИ ЗАТВАР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у хемијски индиферен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ст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стаби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се одвајати делови у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мењати квалитативно или квантитативно састав раствора ни за време стерилизације нити за време чувања препарата, у декларисаном року употреб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42960" y="1699920"/>
            <a:ext cx="777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ени затварачи се израђују од материјала добијених вулканизацијом (унакрсно повезивање) макромолекула органских супстанци (еластомери- природни и синтетски) и адитива (средства за вулканизацију, акцелератори, стабилизатори, пигм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еластомери: природни, бутил, хлорбутил и силиконски еластом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АЛНА АМБАЛ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уминијум, лим и нерђајући че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, кутије, посуде за аеросол, фо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 металне амбала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о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љивост за влагу, гасове и микрооргани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 металне амбалаж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коро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а садржајем – може се спречити облагањем унутрашњег слоја амбалаже материјалима на бази смоле. Спољашњи слој се такође облаже да би се заштитио метал и омогућило штамп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395280" y="981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една табела карактеристика стаклене, металне и пластичне амбал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68360" y="1844640"/>
          <a:ext cx="7921440" cy="4856040"/>
        </p:xfrm>
        <a:graphic>
          <a:graphicData uri="http://schemas.openxmlformats.org/drawingml/2006/table">
            <a:tbl>
              <a:tblPr/>
              <a:tblGrid>
                <a:gridCol w="2309760"/>
                <a:gridCol w="1486080"/>
                <a:gridCol w="1898640"/>
                <a:gridCol w="22269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к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атибилност са садржај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 већином лек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ћа интера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природе пласт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ж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ш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0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стљивост за гасове и вла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пустљиво за гасове (О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 водену па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пустљиво за гасове (О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 водену па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природе пласт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ност на високим тем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природе пласт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а од ста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врсте материј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395280" y="1052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ПИР И КАР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95280" y="1700280"/>
            <a:ext cx="799308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 се користи за израду примарне амбалаже осим за подељене прашк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израду кеса, врећица, папирних капсула, сигнатура и упутстава за употребу лека, кут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 папирне амбала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облик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рецикл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о за штам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 папирне амбала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тљивост за гасове, вла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 на виске и ниске 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06600" y="119700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алажа која је у директном контакту са леком представља примар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у амбалаж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пр. стаклена боца са раствор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о паковање (нпр. картонска кутија за стаклену боцу) садржи примарну амбалажу и додатне компоненте као што су мерне кашике и информација о ле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рцијарна амбалажа служи да обједини више секундарно запакованих производа да би се олакшaло склaдиштење и трaнс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395280" y="981000"/>
            <a:ext cx="7848720" cy="85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хтеви за примарну амбала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леком (адсорпција лека на амбалажу може смањити потентност лека док отпуштање хемикалија у садржај амбалаже може индуковати деградацију ле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а од атмосферских фак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лага, кисеоник, светлост, температура, прашина) као и од микроорганизама, инсеката и гло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омогући релативно лак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очавање механичких нечистоћа, контаминаната различитог порекла, деградације у препарат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буд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фт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је једнократна или да се лако пере ако је доказано да је безбедно поново је употребити - вишекрат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250920" y="1268280"/>
            <a:ext cx="81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а лека дејством светлости – светлост може да обезбеди енергију потребну да лек изомер промени конфигурацију. Заштита се постиже употребом амбалаже направљене од опалесцентних или обојених матер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а лека дејством кисеоника – деградација процесом оксид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а лека дејством угљен-диоксида – растварањем у води снижава pH вредност формирајући угљену кисе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га може узроковати разблаживање течног препарата и микробиолошку контаминацију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ски прописи:</a:t>
            </a:r>
            <a:br>
              <a:rPr sz="2800"/>
            </a:br>
            <a:r>
              <a:rPr b="1" lang="az-Cyrl-A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гословенска фармакопе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2000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 подређен стабилности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физички да реагује са садржајем на начин да доведе до промене карактеристика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: одређене врсте пластичних материјала и стакл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о паковање може бити вишедозно (бочица са таблетама) или једнодозно (блистер или стрип паковања табле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Vitamin C Retard 1000mg 90 tableta"/>
          <p:cNvPicPr/>
          <p:nvPr/>
        </p:nvPicPr>
        <p:blipFill>
          <a:blip r:embed="rId1"/>
          <a:stretch/>
        </p:blipFill>
        <p:spPr>
          <a:xfrm>
            <a:off x="611280" y="290844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E:\Far.tehnologija 1\2022 23\slika blister.jpg"/>
          <p:cNvPicPr/>
          <p:nvPr/>
        </p:nvPicPr>
        <p:blipFill>
          <a:blip r:embed="rId2"/>
          <a:stretch/>
        </p:blipFill>
        <p:spPr>
          <a:xfrm>
            <a:off x="3780000" y="2997360"/>
            <a:ext cx="4679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амбалажног материјала примарног паковања зависи од фармацеутског облика, начина апликације лека, стабилности лека, потребе за стерилизацијом, изгледа, еколошког аспекта и ц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КЛО, ПЛАСТИКА И МЕТ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који се најчешће користе за израду примарне амбала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57360" y="1197000"/>
            <a:ext cx="8078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КЛЕНА АМБАЛ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фна прехлађена смеша силиката алкалних, земноалкалних и других ме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у употреби за производњу фармацеутске амбал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лене боце и ампуле одређеног квалитета имају предност због хемијске инертности и транспарен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силикатно (неутрално) стакло у употреби због термичке отпор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3:20Z</dcterms:modified>
  <cp:revision>131</cp:revision>
  <dc:subject/>
  <dc:title>Slide 1</dc:title>
</cp:coreProperties>
</file>