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41E-EC6A-4DC2-A5E3-3ED4E1C5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AF0-812F-4FC6-8954-7ADD8419F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58FA-5C55-42BF-8B15-1E64A0C4D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14560" y="706320"/>
            <a:ext cx="4574880" cy="3430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chematic drawing of a typical de-ionizer is give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out 2-2-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se it to explain the pathway of water through a twin bed de-ioniz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tened water enters at the top right into the twin bed de-ionizer.  Cation and anion exchange agents are resins with large surface areas.  Cations are exchanged for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ions for O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 combination is H-OH, or water!  After Cation and anion exchange, the water is filtered (to remove resin particles and sometimes bacteria) before being re-circulated through the distribution system and returned to the de-ionizer, usually via a buffer tank.  The Cation and anion resins are regenerated using hydrochloric acid and sodium hydroxide respectively.  There should be specifications available for these two materials for the inspector to che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bed de-ionizers are also common.  They may be more prone to bacterial contamination and so the inspector should check them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hould be disinfected at regular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is not a option, because of the resin material.  Furthermore, many of the de-ionizers are made of plastic materials.  However, the regenerating chemicals are very effective biocides and so the system should be regenerated frequently, at least once a week, regardless of the conductivity readings. Inspectors should ask for the sanitation records so that these can be check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isinfection of the circulating water is necessary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is can be achieved by inline UV irradiation and or ozoniz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4C0-7275-4984-9EB5-54F948A3C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35440" y="566100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26920" y="177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29685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5520" y="2349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истра, безбојна, без мириса и ук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на, б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: 5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ивне матер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 након испара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mg/100 ml – 0,001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: укупан број аеробних микроорганиз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l (Ph.Jug.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871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h.Jug. IV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је стандарде за одређивање, осим за стерилне препара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4,3 µS/cm (20°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осталих вода за примену у фарм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нестерилних фармацеутск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 и чишћење опр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СМЕ </a:t>
            </a: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Е УПОТРЕБИТИ ЗА ИЗРАДУ ПАРЕНТЕРАЛН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безбојна течност, без мириса и укуса, стерилна и апирог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: 5 – 7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ивне матер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 након испарав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mg/100 ml – 0,001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ad iniectabil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redestil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bidestil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захте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дестилацијом свеже пречишћене воде а затим стерилише (поступак 2а или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шта 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 пу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(засејавање на подлог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е супстанце (биолошка метода на кунић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о у боцама од неутралног стакла, високе хидролитичке отпо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парентералних и офталмолошких препа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 дестилисана може се употребити за израду инјекција, без претходне стерилизације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ДПП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се мора користити свеже припремљена (чувањ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до употребе чувати при константној циркулацији на тем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ту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90764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 омекшале или пречишћене воде дестилациј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Ph.Eur., BP, DAB 10/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 осм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,0 – 7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шки метали, нит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ски ендотокс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 0,25 IU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in bulk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h.Jug.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in bulk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h.Jug.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рижидеру (мање количине) или на температури изна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°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сталној циркулацији најдуже 2 – 3 дана (већи волум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препарата за парентералну примену који се стерилишу у финалној амбал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воде за специјалне намен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на вода за инј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на у одговарајућу амбалажу од стакла или пластике (одговарајућег квалитета) и стерилисана на одговарајући нач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безбојна, без механичких онечишћењ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,0 – 7,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билне супстанц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олумен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10 m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25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 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олумен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5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 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ски ендотокс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IU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е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кло или плас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l /USP 24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арање или израда парентералних препарата под асептичним 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на 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ена вод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фармацеутских препарата (носач, ексципије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нтези лековитих и помоћн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конституцију не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ње и чишћење посуђа, амбалаже, апарат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стерилизације (засићена водена пара под притиском – аутоклавир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налитици лековитих супстанци и фармацеутских пре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концентрованих раствора за хемодијализ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for diluting concentrated haemodialysis solution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говара пречишћеној води, омекшаној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о за пречишћену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о за пречишћену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АЛУМИНИЈУ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оксичних 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а количи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µg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пречишћена вода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ighly purified–Aqua valde purificat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а за употребу у производњи медицинских производа где је потребна вод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оког биолошког квал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узев када се захтева вода за инј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ирани поступци добијања (реверзна осмоза, ултрафилтрација и дејонизација); праћење проводљивости и контрола микробиолошког квалит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добијања воде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6756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дести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ода јонске измене (деминерализа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тода ре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м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тале методе (електродијализа, савремене методе добијања “ултра чисте” во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двајање супстанци које се међусоб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ују по температури кључањ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тиску па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аздвајање воде од неиспарљивих растворених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од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дестилатор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 са вишеструким еф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 који раде на принципу термокомпре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3156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и апарати за дестилацују направљени су од нерђајућег челика, бакра и кварцног стак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утство за рад са класичним дестилато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и се до 2/3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5 мин. водена пара пролази без хлађења, да би се елиминисали микрооргани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10 – 20% и последњих 10% дестилата се одбацују због могуће присутних гасова и испарљивих компоненти, који могу угрозити квалитет дести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азне количине воде – 7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стиловане в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јонске из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53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 за пиће пролази кроз катјонски и анјонски измењивач (јоноизмењивачке смоле), при чему се издвајају у води растворни ј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оизмењивачке смоле – нерастворљиве, синтетске, полимерне, фенолне, карбоксилне, амино или сулфоноване смоле велике молекулске ма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јонске из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ском воде кроз катјонски измењив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из воде замењује се хидроген јонима из смо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ском во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анјонски измењивач, за смолу се везују ан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HA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чи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се одвијају сукцесивно или симулт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енера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јонске колоне раство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јонске раствор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O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5508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651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3341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"/>
          <p:cNvCxnSpPr/>
          <p:nvPr/>
        </p:nvCxnSpPr>
        <p:spPr>
          <a:xfrm>
            <a:off x="4355640" y="4436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7"/>
          <p:cNvCxnSpPr/>
          <p:nvPr/>
        </p:nvCxnSpPr>
        <p:spPr>
          <a:xfrm>
            <a:off x="4066920" y="3212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13"/>
          <p:cNvSpPr/>
          <p:nvPr/>
        </p:nvSpPr>
        <p:spPr>
          <a:xfrm>
            <a:off x="1763640" y="1125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дејон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31960" y="1863720"/>
            <a:ext cx="748008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ан процес који се одвија под притиском већим од осмотск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нска сила процеса је разлика у притисцима на странама мемб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ју се молекуле растварача (ВОДА) од молекула растворених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м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ак молекула воде кроз семипермеабилну мембрану у смеру од мањ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 већој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верзна осмоза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ак молекула воде кроз семипермеабилну мембрану у смеру од више ка нижој 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884880" y="5467320"/>
            <a:ext cx="297360" cy="332280"/>
            <a:chOff x="884880" y="5467320"/>
            <a:chExt cx="297360" cy="332280"/>
          </a:xfrm>
        </p:grpSpPr>
        <p:sp>
          <p:nvSpPr>
            <p:cNvPr id="108" name="Oval 4"/>
            <p:cNvSpPr/>
            <p:nvPr/>
          </p:nvSpPr>
          <p:spPr>
            <a:xfrm>
              <a:off x="901800" y="5492880"/>
              <a:ext cx="196920" cy="23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884880" y="54673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865800" y="5886360"/>
            <a:ext cx="297360" cy="332280"/>
            <a:chOff x="865800" y="5886360"/>
            <a:chExt cx="297360" cy="332280"/>
          </a:xfrm>
        </p:grpSpPr>
        <p:sp>
          <p:nvSpPr>
            <p:cNvPr id="111" name="Oval 7"/>
            <p:cNvSpPr/>
            <p:nvPr/>
          </p:nvSpPr>
          <p:spPr>
            <a:xfrm>
              <a:off x="901800" y="5911920"/>
              <a:ext cx="196920" cy="23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865800" y="588636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>
            <a:off x="1190520" y="547992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e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305000" y="588024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urifi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735360" y="2259000"/>
            <a:ext cx="415800" cy="10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5"/>
          <p:cNvSpPr/>
          <p:nvPr/>
        </p:nvSpPr>
        <p:spPr>
          <a:xfrm>
            <a:off x="5048280" y="2200320"/>
            <a:ext cx="420480" cy="1106280"/>
          </a:xfrm>
          <a:custGeom>
            <a:avLst/>
            <a:gdLst>
              <a:gd name="textAreaLeft" fmla="*/ 0 w 420480"/>
              <a:gd name="textAreaRight" fmla="*/ 420840 w 42048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65" h="697">
                <a:moveTo>
                  <a:pt x="0" y="12"/>
                </a:moveTo>
                <a:lnTo>
                  <a:pt x="0" y="696"/>
                </a:lnTo>
                <a:lnTo>
                  <a:pt x="264" y="696"/>
                </a:lnTo>
                <a:lnTo>
                  <a:pt x="26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4933800" y="1857240"/>
            <a:ext cx="20764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2749680" y="2333520"/>
            <a:ext cx="7491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8"/>
          <p:cNvSpPr/>
          <p:nvPr/>
        </p:nvSpPr>
        <p:spPr>
          <a:xfrm flipV="1">
            <a:off x="2314440" y="224136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9"/>
          <p:cNvSpPr/>
          <p:nvPr/>
        </p:nvSpPr>
        <p:spPr>
          <a:xfrm flipV="1">
            <a:off x="2705040" y="224136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5"/>
          <p:cNvSpPr/>
          <p:nvPr/>
        </p:nvSpPr>
        <p:spPr>
          <a:xfrm>
            <a:off x="2294280" y="111276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ВЕРЗНА ОСМ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2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00696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964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употребу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растварања великог броја лековит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 са великим бројем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ст са физиолошког асп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лековите супстанце из раствора је брза и комплет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де се уклањају нерастворне материје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мање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ктерије, вируси, пирогени) и 90 – 99% јона из полазн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мето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ала количина неорганских соли (једновалентних јона) пролази мемб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ил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пора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 do 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лањају се бактериј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филтраци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п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 do 0,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клањају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фил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личина п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 do 0,0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клањају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компоненте мас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– 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 за ревезрну осмозу праве се у виду: листова, влакана и цеви, дебљине око 0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акују се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ДУЛЕ /као рамске филтер пресе, спирални намотаји, цеви или шупља влак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илпро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илбути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ам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 задржавају моновалентне јоне (90%), дивалентне јоне (95%), органске супстанце молекулске масе веће од 300, вирусе и бактер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9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 за реверзну осмо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195640" y="1828800"/>
            <a:ext cx="439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 – хемијске особине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вредност диелектричне конста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притисак п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тачка кључањ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особине су последица грађе молекуле воде и настанка агрегата асоцираних 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аеробних микроорганизама 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специфичних микроорганиз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пирогених ма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р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репарате означене са “апирог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Jug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urificata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g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пречишћ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purific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ad iniectabi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концентрованих раствора за хемодијализ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ad concentratis solutiones diluendas haemodi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68360" y="1341360"/>
            <a:ext cx="770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Eur. 7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 (пречишћена вода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чишћена вода у контејнер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пречишћена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(вода за инјекције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ерилна вода за инје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х раствора за хемодијал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намене мора д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гова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еним захтевима 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 (изглед,укус и мир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онстант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чка кључања и специфична проводљив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, који се односе на присуство одређених јона (амонију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дативних супстанци и сувог остат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ци добиј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нерализација (јонска изм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 друга погодна мет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V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верзна осм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3:08Z</dcterms:modified>
  <cp:revision>1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a59b6cd5-d141-4a33-8bf1-0ca04484304f_ActionId">
    <vt:lpwstr>1228c1b3-8d14-4ef7-90f5-bec4640385e4</vt:lpwstr>
  </property>
  <property fmtid="{D5CDD505-2E9C-101B-9397-08002B2CF9AE}" pid="4" name="MSIP_Label_a59b6cd5-d141-4a33-8bf1-0ca04484304f_ContentBits">
    <vt:lpwstr>0</vt:lpwstr>
  </property>
  <property fmtid="{D5CDD505-2E9C-101B-9397-08002B2CF9AE}" pid="5" name="MSIP_Label_a59b6cd5-d141-4a33-8bf1-0ca04484304f_Enabled">
    <vt:lpwstr>true</vt:lpwstr>
  </property>
  <property fmtid="{D5CDD505-2E9C-101B-9397-08002B2CF9AE}" pid="6" name="MSIP_Label_a59b6cd5-d141-4a33-8bf1-0ca04484304f_Method">
    <vt:lpwstr>Standard</vt:lpwstr>
  </property>
  <property fmtid="{D5CDD505-2E9C-101B-9397-08002B2CF9AE}" pid="7" name="MSIP_Label_a59b6cd5-d141-4a33-8bf1-0ca04484304f_Name">
    <vt:lpwstr>restricted-default</vt:lpwstr>
  </property>
  <property fmtid="{D5CDD505-2E9C-101B-9397-08002B2CF9AE}" pid="8" name="MSIP_Label_a59b6cd5-d141-4a33-8bf1-0ca04484304f_SetDate">
    <vt:lpwstr>2021-10-22T16:41:40Z</vt:lpwstr>
  </property>
  <property fmtid="{D5CDD505-2E9C-101B-9397-08002B2CF9AE}" pid="9" name="MSIP_Label_a59b6cd5-d141-4a33-8bf1-0ca04484304f_SiteId">
    <vt:lpwstr>38ae3bcd-9579-4fd4-adda-b42e1495d55a</vt:lpwstr>
  </property>
</Properties>
</file>